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376FB-87CA-4342-947E-53EAFA45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31B5A-FAB9-4765-9638-9485B335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BAB31-5869-4787-9807-E7F64E5C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C8812-EC2B-46AB-886C-8309BF2D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8050-7F6E-4AEB-8784-0EE14FA1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52D9-2502-4383-B346-5F0A834D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2F75-B7EF-4450-9D1D-8D198B4F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16B7-127F-43FF-8A0E-3CED5D96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B633-A4A5-404E-AFB0-BE2A6A69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9DEF-7DCB-44D8-937B-1A1828DD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8753-9AD4-4580-BCC4-562583D1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2514F-93A4-4384-BFA7-693F154D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B23F-8A39-4C19-BB20-F275808C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4110-AB50-4055-A543-85B6D851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907B-CFD7-4095-89C6-866A9FB1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88B4-5A95-4CFF-B6FF-3A606E51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975E-00A6-4668-A83E-F434CBC9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BBA9-3114-40BA-AF58-3489E005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C0F6-7F28-4C59-B06E-BEE10B17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A4E7-2F5A-47DC-A0EC-B26D4332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BD33-60E3-469E-A053-DF3D1925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3B06-8577-4391-A4EE-16B8F34E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096A-755E-4BA7-987B-EC5C468A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2D1D-0143-47AF-8E4F-51359030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3216-F9FB-4BD5-86C0-6969C493FC0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68DD-5037-4D32-B3B2-CC072908602C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Setting </a:t>
            </a:r>
            <a:br>
              <a:rPr sz="4500"/>
            </a:b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Summary Questions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e ‘P’s-ful way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Have fun playing teacher!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ssage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ing the pass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When setting any comprehension paper, besides ensuring that the chosen passage has enough depth to craft questions from, teachers also have to check if there is a “rich-enough” section of the passage from which a Summary Question can be set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r your task, the passage has already been chosen 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so you need not 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bout thi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ragraphs 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lineating the paragraph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Now that the passage has been chosen, you need to mark out the paragraphs from which the summary points are to be taken from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Your choice will be determined again by the richness of the paragraphs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the next slide on how to go about this step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ragraph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ad through the whole passag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dentify the gist of each paragrap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dentify a series of consecutive paragraphs that deal with a certain aspect of the issue in the passage. E.g. (not exhaustiv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Chronological unfolding of event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Compare and contrast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Pros and con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Past and present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rk out your intended paragraph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This should not be anything less than 4 paragraphs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int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w, working on the aspect of the issue and paragraphs you have identified, mark out the possible content points in the paragraph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should identify about 15 content points to ensure the intended summary question can work ou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w that you have ascertained a Summary Question can be set from the passage, tidy up your intended question and answe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nsure that your question leads to your answer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the next two slides to check the validity of your intended ques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eck the phrasing of your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re the key phrases clear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Do the key phrases lead the student to the content points you intended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you need to rephrase your question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Questions typically ask for (not exhaustive):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count of events (for paragraphs in chronology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s and C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st and Pres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blem and Solu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eck the content points of your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NSWER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re you led to these points by the question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then you either change your points, or change the question phrasing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Is there more than one point per mark awarded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break up the points into smaller ones where you award one mark per poi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fter the touch-up process, you should get between 18 and 22 content points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tting it in your own wor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Now that your content points have been identified and confirmed, you should try phrase them in your own words as far as possible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e ‘Summary-Passage Sample’ and ‘Summary-Answer Sample’ for the format on the wording of the question and the structure of the answer scheme. Follow this same format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21:49:54Z</dcterms:created>
  <dc:creator>tanyh</dc:creator>
  <dc:description/>
  <dc:language>en-US</dc:language>
  <cp:lastModifiedBy>tanyh</cp:lastModifiedBy>
  <dcterms:modified xsi:type="dcterms:W3CDTF">2009-09-03T22:52:51Z</dcterms:modified>
  <cp:revision>4</cp:revision>
  <dc:subject/>
  <dc:title>Setting  Summary Questions</dc:title>
</cp:coreProperties>
</file>