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00A0B-88D6-417B-A61A-B217B8ECB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5791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971440" y="5023440"/>
            <a:ext cx="5791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12DC7-F97B-4D7F-B483-D2CB5DFCB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297144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93928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63CCF-B27B-4C96-8E3E-5686828DB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9480" y="426708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87520" y="426708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2971440" y="502344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929480" y="502344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887520" y="502344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6E5D7-CFE9-4DEF-9375-F35D61555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B6FB0-3C29-44ED-BFE4-F389C07E8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9E652-6F4C-4D28-8D6D-C3F4186E1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310EE-B569-406B-9278-8B98AAF7C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5C4E5-4953-4A9B-843B-C4A71C2C2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604F1-057A-46C5-AFCC-E97929A8F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2895120" y="1371600"/>
            <a:ext cx="5867640" cy="105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8AE9B-5B3C-4E30-BE89-773F81AF6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97144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9B2D7-8876-43E3-A84B-4A00B755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12357-CF13-402D-8FFF-954A4DF68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3928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46016-9A1B-4C44-B6FA-B8B15CE3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2971440" y="5023440"/>
            <a:ext cx="5791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24A04-9928-4427-AE56-66C28A70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5791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971440" y="5023440"/>
            <a:ext cx="5791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FEBF4-DC4A-4221-A12B-1AD634214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297144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93928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0DDBA-C39E-4F03-9F53-7F3C6C3E5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29480" y="426708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87520" y="426708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2971440" y="502344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929480" y="502344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887520" y="502344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A862F-1F9F-4966-B7C7-2A8D7DF10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A1199-05BB-473E-BA6A-83A173C1A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84ED9-0B54-425A-9562-5203E06C9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DEE24-F13E-4568-80C4-A9EDA057F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895120" y="1371600"/>
            <a:ext cx="5867640" cy="105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A0ED4-D8B9-44A7-A231-D55DF7F4D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97144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C6B55-6B57-4A31-9621-F8D23359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28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37384-7AA7-4075-9D7C-F2E1B59B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971440" y="5023440"/>
            <a:ext cx="5791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94EED-F500-43E1-A5A7-28702939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DA593-4A9E-4C7C-9B9B-D7B31A98982A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766A6-4AF8-49BE-891E-CB66C93B5C1D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80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00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cc"/>
                </a:solidFill>
                <a:latin typeface="Arial"/>
              </a:rPr>
              <a:t>Setting </a:t>
            </a:r>
            <a:br>
              <a:rPr sz="4500"/>
            </a:br>
            <a:r>
              <a:rPr b="0" lang="en-US" sz="4500" spc="-1" strike="noStrike">
                <a:solidFill>
                  <a:srgbClr val="ffffcc"/>
                </a:solidFill>
                <a:latin typeface="Arial"/>
              </a:rPr>
              <a:t>Summary Questions</a:t>
            </a: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The ‘P’s-ful way</a:t>
            </a: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cc"/>
                </a:solidFill>
                <a:latin typeface="Arial"/>
              </a:rPr>
              <a:t>Have fun playing teacher!</a:t>
            </a: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cc"/>
                </a:solidFill>
                <a:latin typeface="Arial"/>
              </a:rPr>
              <a:t>The Passage</a:t>
            </a:r>
            <a:endParaRPr b="0" lang="en-US" sz="39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hoosing the passag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When setting any comprehension paper, besides ensuring that the chosen passage has enough depth to craft questions from, teachers also have to check if there is a “rich-enough” section of the passage from which a Summary Question can be set.</a:t>
            </a:r>
            <a:endParaRPr b="0" lang="en-US" sz="25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or your task, the passage has already been chosen </a:t>
            </a:r>
            <a:r>
              <a:rPr b="0" lang="en-US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, so you need not </a:t>
            </a:r>
            <a:r>
              <a:rPr b="0" lang="en-US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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about this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cc"/>
                </a:solidFill>
                <a:latin typeface="Arial"/>
              </a:rPr>
              <a:t>The Paragraphs </a:t>
            </a:r>
            <a:endParaRPr b="0" lang="en-US" sz="39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elineating the paragraph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Now that the passage has been chosen, you need to mark out the paragraphs from which the summary points are to be taken from.</a:t>
            </a:r>
            <a:endParaRPr b="0" lang="en-US" sz="25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Your choice will be determined again by the richness of the paragraphs.</a:t>
            </a:r>
            <a:endParaRPr b="0" lang="en-US" sz="25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e the next slide on how to go about this step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cc"/>
                </a:solidFill>
                <a:latin typeface="Arial"/>
              </a:rPr>
              <a:t>The Paragraphs</a:t>
            </a:r>
            <a:endParaRPr b="0" lang="en-US" sz="39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ead through the whole passage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dentify the gist of each paragraph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dentify a series of consecutive paragraphs that deal with a certain aspect of the issue in the passage. E.g. (not exhaustive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Arial"/>
              </a:rPr>
              <a:t>Chronological unfolding of events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Arial"/>
              </a:rPr>
              <a:t>Compare and contrast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Arial"/>
              </a:rPr>
              <a:t>Pros and cons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Arial"/>
              </a:rPr>
              <a:t>Past and present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ark out your intended paragraph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Arial"/>
              </a:rPr>
              <a:t>This should not be anything less than 4 paragraphs.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cc"/>
                </a:solidFill>
                <a:latin typeface="Arial"/>
              </a:rPr>
              <a:t>The Points</a:t>
            </a:r>
            <a:endParaRPr b="0" lang="en-US" sz="39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Now, working on the aspect of the issue and paragraphs you have identified, mark out the possible content points in the paragraph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You should identify about 15 content points to ensure the intended summary question can work out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cc"/>
                </a:solidFill>
                <a:latin typeface="Arial"/>
              </a:rPr>
              <a:t>The Powder Puff 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(touch-up, lah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Now that you have ascertained a Summary Question can be set from the passage, tidy up your intended question and answer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nsure that your question leads to your answer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e the next two slides to check the validity of your intended questio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cc"/>
                </a:solidFill>
                <a:latin typeface="Arial"/>
              </a:rPr>
              <a:t>The Powder Puff 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(touch-up, lah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heck the phrasing of your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Arial"/>
              </a:rPr>
              <a:t>Are the key phrases clear?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Arial"/>
              </a:rPr>
              <a:t>Do the key phrases lead the student to the content points you intended?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f yes, all well and good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f no, you need to rephrase your question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Arial"/>
              </a:rPr>
              <a:t>Questions typically ask for (not exhaustive):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ccount of events (for paragraphs in chronology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Pros and Con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Past and Presen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Problem and Soluti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cc"/>
                </a:solidFill>
                <a:latin typeface="Arial"/>
              </a:rPr>
              <a:t>The Powder Puff 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(touch-up, lah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heck the content points of your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NSWER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Arial"/>
              </a:rPr>
              <a:t>Are you led to these points by the question?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80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f yes, all well and good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80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f no, then you either change your points, or change the question phrasing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Arial"/>
              </a:rPr>
              <a:t>Is there more than one point per mark awarded?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80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f yes, break up the points into smaller ones where you award one mark per point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80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f no, all well and good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Arial"/>
              </a:rPr>
              <a:t>After the touch-up process, you should get between 18 and 22 content points.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cc"/>
                </a:solidFill>
                <a:latin typeface="Arial"/>
              </a:rPr>
              <a:t>The Powder Puff 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(touch-up, lah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utting it in your own word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Now that your content points have been identified and confirmed, you should try phrase them in your own words as far as possible.</a:t>
            </a:r>
            <a:endParaRPr b="0" lang="en-US" sz="25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See ‘Summary-Passage Sample’ and ‘Summary-Answer Sample’ for the format on the wording of the question and the structure of the answer scheme. Follow this same format.</a:t>
            </a:r>
            <a:endParaRPr b="0" lang="en-US" sz="25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3T21:49:54Z</dcterms:created>
  <dc:creator>tanyh</dc:creator>
  <dc:description/>
  <dc:language>en-US</dc:language>
  <cp:lastModifiedBy>tanyh</cp:lastModifiedBy>
  <dcterms:modified xsi:type="dcterms:W3CDTF">2009-09-03T22:52:51Z</dcterms:modified>
  <cp:revision>4</cp:revision>
  <dc:subject/>
  <dc:title>Setting  Summary Questions</dc:title>
</cp:coreProperties>
</file>