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C2B58-9EFF-4668-9E37-D9EBA2DD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E06CA-4D33-4853-AE7A-ED73E215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57424-2660-40A8-8E86-BA271689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88F3D-BB80-4B75-91F1-4A24DAD9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849C-46F4-475C-8715-7B1BD7E0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6DED-75B8-4BDD-8F11-FBD2D9E2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922D-FE3D-4932-B7F5-8C0D5279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F981-F679-4547-8EF0-95CEB71D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1DF2-6CBD-4A3F-9437-A2C96065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3823-554E-4E19-BFCF-C1C0C2A8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D853-DDC8-446F-9D7A-81DFC98C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575EC-26D6-49AE-A954-ECED8F6D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FD40-6C4A-4AB5-B892-309A333F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5FC1-4622-4C47-9A19-BAB37912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EB40-0A96-4C97-93AE-F2B0EBCD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46A2-090B-47C4-89C9-F37FEE04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8A37-2DD5-48B2-83CC-7599C114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81A25-1FA2-47C5-B515-6ACD5FB3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F762E-EDBA-4DE8-8ADA-38431424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684BC-A25A-4D8C-B47D-E2B01AB1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4DCEF-36A0-4221-9268-C60FD0B8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47510-E377-442D-8280-7C9DD17C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B3AA7-6814-4658-8629-379F64A9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20B2D-A569-4E1C-972A-FAE3AB95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E905-DA33-43F2-9EBB-9B0D0FDD142B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9861-BA5F-4C06-9271-3253BC801477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Setting </a:t>
            </a:r>
            <a:br>
              <a:rPr sz="4500"/>
            </a:b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Summary Questions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The ‘P’s-ful way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Have fun playing teacher!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assage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oosing the pass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When setting any comprehension paper, besides ensuring that the chosen passage has enough depth to craft questions from, teachers also have to check if there is a “rich-enough” section of the passage from which a Summary Question can be set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r your task, the passage has already been chosen </a:t>
            </a:r>
            <a:r>
              <a:rPr b="0" lang="en-US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so you need not </a:t>
            </a:r>
            <a:r>
              <a:rPr b="0" lang="en-US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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bout this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aragraphs 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lineating the paragraph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Now that the passage has been chosen, you need to mark out the paragraphs from which the summary points are to be taken from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Your choice will be determined again by the richness of the paragraphs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 the next slide on how to go about this step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aragraphs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ad through the whole passag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dentify the gist of each paragraph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dentify a series of consecutive paragraphs that deal with a certain aspect of the issue in the passage. E.g. (not exhaustive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Chronological unfolding of events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Compare and contrast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Pros and cons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Past and present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rk out your intended paragraph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This should not be anything less than 4 paragraphs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ints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w, working on the aspect of the issue and paragraphs you have identified, mark out the possible content points in the paragraph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should identify about 15 content points to ensure the intended summary question can work out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w that you have ascertained a Summary Question can be set from the passage, tidy up your intended question and answer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nsure that your question leads to your answer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 the next two slides to check the validity of your intended questio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heck the phrasing of your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Are the key phrases clear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Do the key phrases lead the student to the content points you intended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yes, all well and goo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no, you need to rephrase your question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Questions typically ask for (not exhaustive):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ccount of events (for paragraphs in chronology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ros and C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ast and Pres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roblem and Solu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heck the content points of your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NSWER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Are you led to these points by the question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yes, all well and goo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no, then you either change your points, or change the question phrasing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Is there more than one point per mark awarded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yes, break up the points into smaller ones where you award one mark per point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no, all well and goo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After the touch-up process, you should get between 18 and 22 content points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tting it in your own wor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Now that your content points have been identified and confirmed, you should try phrase them in your own words as far as possible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See ‘Summary-Passage Sample’ and ‘Summary-Answer Sample’ for the format on the wording of the question and the structure of the answer scheme. Follow this same format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21:49:54Z</dcterms:created>
  <dc:creator>tanyh</dc:creator>
  <dc:description/>
  <dc:language>en-US</dc:language>
  <cp:lastModifiedBy>tanyh</cp:lastModifiedBy>
  <dcterms:modified xsi:type="dcterms:W3CDTF">2009-09-03T22:52:51Z</dcterms:modified>
  <cp:revision>4</cp:revision>
  <dc:subject/>
  <dc:title>Setting  Summary Questions</dc:title>
</cp:coreProperties>
</file>