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F7401-10F2-412D-AAB2-59A04114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7A833-0E86-4A51-B27E-8C5F7C7F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143F-2346-46A3-8BC2-C8801C84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9B71-3883-4DF9-A6DE-AB0270A5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9B4C-BD65-4097-BC55-87B6FC94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FC1C-5DCA-4CBA-9D40-B71AAF86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C297-DF0E-41C5-94C5-709D4C07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C319-5DB5-4AF8-B60C-E3FB4EC6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E54E-B315-4313-9BC2-D98AEEC3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88B2-5C75-485B-9AF0-D3498629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BE8A-B4D2-495F-A901-1DCFBDBE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6696-2A06-48A1-8113-E60E9074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BC38-362B-4A33-96BC-56A6F823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23C5-17E6-40A1-831D-6A7990CC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6C6F-7D01-485F-91C4-6C66624D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C2C5-E7BA-463F-A025-D6F761DB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36B7-FD5A-4978-AE27-57E5624A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8F4AF-CF9E-46C4-B57D-55209292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CBA77-1270-4C37-84CD-286ED8D7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9AA74-33AD-4F58-80C9-52FEC263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8131-BDFE-4951-8D3E-2EA2C02A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4C56A-CF1F-4413-B949-723CA4AC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726B-7AC0-4D21-BCDD-BF55F588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9D9D4-66C1-46CB-8700-20229664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CC0F-61E8-49A1-A18D-1F5FA05E35F3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EB18-F024-4CD7-BE71-6440628D14DB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Setting </a:t>
            </a:r>
            <a:br>
              <a:rPr sz="4500"/>
            </a:b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Summary Questions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he ‘P’s-ful way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Have fun playing teacher!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assage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oosing the pass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When setting any comprehension paper, besides ensuring that the chosen passage has enough depth to craft questions from, teachers also have to check if there is a “rich-enough” section of the passage from which a Summary Question can be set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r your task, the passage has already been chosen </a:t>
            </a:r>
            <a:r>
              <a:rPr b="0" lang="en-US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so you need not </a:t>
            </a:r>
            <a:r>
              <a:rPr b="0" lang="en-US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bout thi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aragraphs 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lineating the paragraph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Now that the passage has been chosen, you need to mark out the paragraphs from which the summary points are to be taken from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Your choice will be determined again by the richness of the paragraphs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 the next slide on how to go about this step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aragraphs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ad through the whole passag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dentify the gist of each paragraph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dentify a series of consecutive paragraphs that deal with a certain aspect of the issue in the passage. E.g. (not exhaustiv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Chronological unfolding of events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Compare and contrast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Pros and cons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Past and present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rk out your intended paragraph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This should not be anything less than 4 paragraphs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ints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w, working on the aspect of the issue and paragraphs you have identified, mark out the possible content points in the paragraph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should identify about 15 content points to ensure the intended summary question can work ou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w that you have ascertained a Summary Question can be set from the passage, tidy up your intended question and answe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nsure that your question leads to your answer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 the next two slides to check the validity of your intended ques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heck the phrasing of your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Are the key phrases clear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Do the key phrases lead the student to the content points you intended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yes, all well and goo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no, you need to rephrase your question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Questions typically ask for (not exhaustive):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ccount of events (for paragraphs in chronology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s and C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st and Pres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blem and Solu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heck the content points of your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NSWER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Are you led to these points by the question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yes, all well and goo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no, then you either change your points, or change the question phrasing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Is there more than one point per mark awarded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yes, break up the points into smaller ones where you award one mark per poin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no, all well and goo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After the touch-up process, you should get between 18 and 22 content points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tting it in your own wor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Now that your content points have been identified and confirmed, you should try phrase them in your own words as far as possible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See ‘Summary-Passage Sample’ and ‘Summary-Answer Sample’ for the format on the wording of the question and the structure of the answer scheme. Follow this same format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21:49:54Z</dcterms:created>
  <dc:creator>tanyh</dc:creator>
  <dc:description/>
  <dc:language>en-US</dc:language>
  <cp:lastModifiedBy>tanyh</cp:lastModifiedBy>
  <dcterms:modified xsi:type="dcterms:W3CDTF">2009-09-03T22:52:51Z</dcterms:modified>
  <cp:revision>4</cp:revision>
  <dc:subject/>
  <dc:title>Setting  Summary Questions</dc:title>
</cp:coreProperties>
</file>