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CB6F-A642-41D9-9991-841C9B90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5F6E-C874-4EAC-BBB0-315D081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23B2-F16F-450D-A6FA-84DDFABE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1439-CE64-4C54-A37F-0FF01836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091-C0F0-420D-AD61-9B7B3E3F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13E4-B59D-41DA-B1BA-0566FE9E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F7D4-0EEE-4732-8379-CC0B7A31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21AD-FC07-4B99-90EC-5490FF04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A879-5528-4D31-AA45-A13A411D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97AB-44F0-41E2-AC90-1D24D433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15D1-62A5-4FF0-9118-FFB033A4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9A5E-B64F-4D28-956E-FE1A52D3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EF68-72C6-4D15-8373-BC91101C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12AE-D7D2-4A19-BB5A-8B3CDD4C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5160-67DC-4E54-8C9E-15EE9157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665C-BC4A-4770-A102-762C5923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59B5-4C9C-4359-B5AB-4D973AA4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A013-9526-4C65-9A79-CC261DE4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FF20-09FA-42E4-96F5-E0C63B61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A6A7-7544-436A-8C2F-28D8CF61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257C-B96F-40BD-B92C-157770B8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B669-CB35-490E-B2B6-1CBB00AF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2922E-2DC5-447C-B7B3-7003AA68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20B2-5D6A-403B-8D35-FCA8D64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376A-CB25-410E-9A6B-42506E1E499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D388-BE72-4E77-A8D7-F96E8B1C4B1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etting </a:t>
            </a:r>
            <a:br>
              <a:rPr sz="4500"/>
            </a:b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Summary Questions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e ‘P’s-ful way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Have fun playing teacher!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ssage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ing the passa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When setting any comprehension paper, besides ensuring that the chosen passage has enough depth to craft questions from, teachers also have to check if there is a “rich-enough” section of the passage from which a Summary Question can be se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 your task, the passage has already been chosen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so you need not </a:t>
            </a:r>
            <a:r>
              <a:rPr b="0" lang="en-US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bout thi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lineating the paragraph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the passage has been chosen, you need to mark out the paragraphs from which the summary points are to be taken from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Your choice will be determined again by the richness of the paragraphs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slide on how to go about this step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aragraph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ad through the whole passag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the gist of each paragrap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dentify a series of consecutive paragraphs that deal with a certain aspect of the issue in the passage. E.g. (not exhaustiv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hronological unfolding of event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Compare and contras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rk out your intended paragraph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This should not be anything less than 4 paragraph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int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, working on the aspect of the issue and paragraphs you have identified, mark out the possible content points in the paragraph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ou should identify about 15 content points to ensure the intended summary question can work ou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w that you have ascertained a Summary Question can be set from the passage, tidy up your intended question and answe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sure that your question leads to your answer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e the next two slides to check the validity of your intended ques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phrasing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the key phrases clear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Do the key phrases lead the student to the content points you inten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you need to rephrase your ques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Questions typically ask for (not exhaustive):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count of events (for paragraphs in chronology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s and C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st and Pres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roblem and Solu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ck the content points of your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re you led to these points by the question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then you either change your points, or change the question phras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Is there more than one point per mark awarded?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yes, break up the points into smaller ones where you award one mark per point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f no, all well and goo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After the touch-up process, you should get between 18 and 22 content points.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The Powder Puff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touch-up, lah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tting it in your own wor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Now that your content points have been identified and confirmed, you should try phrase them in your own words as far as possible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e ‘Summary-Passage Sample’ and ‘Summary-Answer Sample’ for the format on the wording of the question and the structure of the answer scheme. Follow this same format.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21:49:54Z</dcterms:created>
  <dc:creator>tanyh</dc:creator>
  <dc:description/>
  <dc:language>en-US</dc:language>
  <cp:lastModifiedBy>tanyh</cp:lastModifiedBy>
  <dcterms:modified xsi:type="dcterms:W3CDTF">2009-09-03T22:52:51Z</dcterms:modified>
  <cp:revision>4</cp:revision>
  <dc:subject/>
  <dc:title>Setting  Summary Questions</dc:title>
</cp:coreProperties>
</file>