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2AD-7657-4002-B6F3-2D310D6D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D53-60A9-40BC-87C3-3F7D276F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E8B-91C8-4548-A192-24B7DD65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0B7-D209-433E-952E-815D2BFB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37DE-2BE8-4987-86B3-E9D1572B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B4D6-F570-49D3-8DBD-85AE979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C9AD-09C9-43BD-8DDE-78B96D4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F2AD-9BC5-4E45-B765-065D437E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8B59-A95E-4A73-9428-989D5125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E614-1C5A-44BF-A6C8-10E500D9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8C75-6EAE-4624-BD8D-BE2A9D3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717-3879-457D-B8EF-06DA00EB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5AD5-2B42-40F6-8047-4C43C9F5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D330-3558-43B1-87BB-BDC348D5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B20E-35D0-4F2E-836C-74D76ABB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E020-C830-4D02-A66F-A1D67440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478E-0C27-414F-8807-6D9A2BB7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F1B-04EA-4066-8866-06C11798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00B-295F-44B0-9013-3AE2D0BB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2EB-44CB-4E3E-AFC8-E0015DD7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64D-2493-4D71-99D1-659E8F7A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F37-6A4E-4318-85D4-CB91DFC2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0DE-59D8-421B-939C-471DDAD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C1D-1868-48D6-B347-E23FCBEC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757E-D497-4F47-A534-BF715D9F6CF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1297-76F7-4D46-91EB-CFC5D5DF887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eature Artic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What is a Feature Articl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eature’ suggests focus on a single issue or personality, such a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n-depth commentary on a current iss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 issue of social importan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ny general issue, e.g. sports, fashion, travel, gossip about well-known celebrities, history, health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ims to inform, entertain or persuad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ften highly subjective and controversia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News vs Feature 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News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s about an event, idea or situ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ports on current situ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formation that is verified and tru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874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22cd"/>
                </a:solidFill>
                <a:latin typeface="Lucida Grande"/>
              </a:rPr>
              <a:t>Featur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pret new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dd depth and colour to the stor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terta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uasiv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ective inform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tent Organis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lead paragraph wit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background information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outline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he issue or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Bod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series of paragraphs which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elaborate the main ide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elective use of fact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o persuade and entertai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clear line of argument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or opin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32640" indent="-332640"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 </a:t>
            </a:r>
            <a:r>
              <a:rPr b="1" lang="en-US" sz="2600" spc="-1" strike="noStrike">
                <a:solidFill>
                  <a:srgbClr val="1822cd"/>
                </a:solidFill>
                <a:latin typeface="Lucida Grande"/>
              </a:rPr>
              <a:t>summar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ylistic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riking headlines / tit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b-hea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riter’s name / bylin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lumn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hort paragraph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Language Featur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motive language (biased words) - to persuade, show attitude or thought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sentence length to avoid monoton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1st person voice - to involve reader and win their suppor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Variation in tone - serious to conversational - depending on purpose of articl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olloquial or formal languag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Jargon (subject-specific registers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umour - to make the read more interesting and entertaining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4:54:53Z</dcterms:created>
  <dc:creator>Yew Hui Tan</dc:creator>
  <dc:description/>
  <dc:language>en-US</dc:language>
  <cp:lastModifiedBy>tanyh</cp:lastModifiedBy>
  <dcterms:modified xsi:type="dcterms:W3CDTF">2008-03-31T01:40:14Z</dcterms:modified>
  <cp:revision>6</cp:revision>
  <dc:subject/>
  <dc:title>Feature Article</dc:title>
</cp:coreProperties>
</file>