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9795-B19B-4FB9-91C0-1F236162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6CD-A50A-4140-8951-CB91A189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EC2F-F8C3-4558-8A65-BB676824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59F4-400D-4B15-9A40-D396C466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02C6-05AC-48F9-9A58-DD20AA21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9071-F410-40FD-ACBA-732ADCE2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DC01-0767-471D-9A76-F1FA2BC0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C744-6135-4FF1-A46A-0F6F2196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6119-EB59-4038-B946-BFCFFBC1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DB5C-FF5A-4DE8-8250-2666E5AF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579D-AE81-4E94-88DD-40AA99B8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5178-5D52-42E0-B04F-6E8D7FE7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A6F4-5250-421D-BDB5-A866F268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9964-F042-4335-961F-C7461CFE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64A8-6A46-4AED-B134-D547968C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EFF4-B85A-4787-8D96-6134E83C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F8D5-9E7C-46A0-BC41-14EEA65E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8868-BF89-4B1D-8ACC-AA6D9F88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1E6-69F5-410F-8215-C8106C3C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23BA-0997-4375-A673-A110549A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9D85-FF2F-4B9D-8C70-0EB42EFA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F58-85A1-4A94-80CF-440EE014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F245-6232-4625-8AC2-B1DA5DBE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9EA7-4CFA-4850-BD33-12C9BCAE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BCE3-F35A-4B6F-9B05-F345DF1E1287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A4F0-31DE-4D31-B821-BED767BA10C2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Feature Artic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What is a Feature Article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eature’ suggests focus on a single issue or personality, such as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An in-depth commentary on a current issu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An issue of social importanc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Any general issue, e.g. sports, fashion, travel, gossip about well-known celebrities, history, health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ims to inform, entertain or persuad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ften highly subjective and controversia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News vs Feature 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2cd"/>
                </a:solidFill>
                <a:latin typeface="Lucida Grande"/>
              </a:rPr>
              <a:t>News Stor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forms about an event, idea or situ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ports on current situat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bjective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formation that is verified and tru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2cd"/>
                </a:solidFill>
                <a:latin typeface="Lucida Grande"/>
              </a:rPr>
              <a:t>Feature Stor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terpret new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dd depth and colour to the stor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ntertai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ersuasiv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lective inform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ontent Organis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 lead paragraph with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background information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which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outlines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the issue or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main idea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Body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 series of paragraphs which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elaborate the main idea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selective use of facts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to persuade and entertai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clear line of argument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or opinio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tylistic Featur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triking headlines / tit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ub-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riter’s name / bylin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Graphic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lumn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hort paragraph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anguage Featur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Emotive language (biased words) - to persuade, show attitude or thoughts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Variation in sentence length to avoid monotony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1st person voice - to involve reader and win their suppor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Variation in tone - serious to conversational - depending on purpose of article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olloquial or formal language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Jargon (subject-specific registers)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Humour - to make the read more interesting and entertaining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4:54:53Z</dcterms:created>
  <dc:creator>Yew Hui Tan</dc:creator>
  <dc:description/>
  <dc:language>en-US</dc:language>
  <cp:lastModifiedBy>tanyh</cp:lastModifiedBy>
  <dcterms:modified xsi:type="dcterms:W3CDTF">2008-03-31T01:40:14Z</dcterms:modified>
  <cp:revision>6</cp:revision>
  <dc:subject/>
  <dc:title>Feature Article</dc:title>
</cp:coreProperties>
</file>