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C5CE-FD94-4278-9285-3209B6E13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6019-61E7-405A-A9CE-0064A1CB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19A4-8309-457E-92C8-986653EFF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F7DE-4469-4C04-8422-0B3F0EC19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CBB0-B086-46C6-8F49-29EE98015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9F0C-73D5-416E-B0A1-886E49E0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EB8F-E285-405C-8D51-38228F05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2A21-C4C6-4DA9-BA9C-19EC5D49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2D2D-11E4-4692-ADC4-9502D84D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8D3D-9469-491A-9932-10692184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5A13-9419-4668-A300-62098EC6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FE4F-6907-419C-A99D-3D58BCEE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DF1E-0D99-46FC-8F9C-89055689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D3EC-FE2A-4D0A-AE81-8926A1CE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AAC7-687A-45B0-BC85-198CD77A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238C-1F64-4239-A555-56C7E6D9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AB9B-2808-4ECE-A074-81AF09D3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73FA-9309-4EFB-83E8-2C4E54A1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2BB3-7C15-4950-90E2-5E7180C5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D9BD-F840-44D1-87DE-901CBC52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EE11-A8C2-4767-9D54-C5810016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3B21-C4F5-4467-B775-8F0FAA38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D94F-F446-44A8-8085-DC0B0C8D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9A9F-F6C7-4A73-83C0-4F86FEC1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562D-3BD4-42A0-9C96-00960EA9AA51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043E-4B3F-4498-8D67-CC867BAFB5F2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Feature Articl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What is a Feature Article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eature’ suggests focus on a single issue or personality, such as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- An in-depth commentary on a current issu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- An issue of social importanc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- Any general issue, e.g. sports, fashion, travel, gossip about well-known celebrities, history, health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ims to inform, entertain or persuad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Often highly subjective and controversia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News vs Feature 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22cd"/>
                </a:solidFill>
                <a:latin typeface="Lucida Grande"/>
              </a:rPr>
              <a:t>News Stor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forms about an event, idea or situ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eports on current situation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bjective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formation that is verified and tru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22cd"/>
                </a:solidFill>
                <a:latin typeface="Lucida Grande"/>
              </a:rPr>
              <a:t>Feature Stor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terpret new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dd depth and colour to the stor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ntertai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ersuasiv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lective inform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ontent Organis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Grande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a lead paragraph with </a:t>
            </a:r>
            <a:r>
              <a:rPr b="1" lang="en-US" sz="2600" spc="-1" strike="noStrike">
                <a:solidFill>
                  <a:srgbClr val="1822cd"/>
                </a:solidFill>
                <a:latin typeface="Lucida Grande"/>
              </a:rPr>
              <a:t>background information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which </a:t>
            </a:r>
            <a:r>
              <a:rPr b="1" lang="en-US" sz="2600" spc="-1" strike="noStrike">
                <a:solidFill>
                  <a:srgbClr val="1822cd"/>
                </a:solidFill>
                <a:latin typeface="Lucida Grande"/>
              </a:rPr>
              <a:t>outlines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the issue or </a:t>
            </a:r>
            <a:r>
              <a:rPr b="1" lang="en-US" sz="2600" spc="-1" strike="noStrike">
                <a:solidFill>
                  <a:srgbClr val="1822cd"/>
                </a:solidFill>
                <a:latin typeface="Lucida Grande"/>
              </a:rPr>
              <a:t>main idea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Grande"/>
              </a:rPr>
              <a:t>Body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a series of paragraphs which </a:t>
            </a:r>
            <a:r>
              <a:rPr b="1" lang="en-US" sz="2600" spc="-1" strike="noStrike">
                <a:solidFill>
                  <a:srgbClr val="1822cd"/>
                </a:solidFill>
                <a:latin typeface="Lucida Grande"/>
              </a:rPr>
              <a:t>elaborate the main idea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22cd"/>
                </a:solidFill>
                <a:latin typeface="Lucida Grande"/>
              </a:rPr>
              <a:t>selective use of facts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to persuade and entertain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22cd"/>
                </a:solidFill>
                <a:latin typeface="Lucida Grande"/>
              </a:rPr>
              <a:t>clear line of argument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or opinion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Grande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a </a:t>
            </a:r>
            <a:r>
              <a:rPr b="1" lang="en-US" sz="2600" spc="-1" strike="noStrike">
                <a:solidFill>
                  <a:srgbClr val="1822cd"/>
                </a:solidFill>
                <a:latin typeface="Lucida Grande"/>
              </a:rPr>
              <a:t>summary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tylistic Featur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triking headlines / titl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ub-head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riter’s name / bylin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Graphic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lumn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hort paragraph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Language Featur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Emotive language (biased words) - to persuade, show attitude or thoughts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Variation in sentence length to avoid monotony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1st person voice - to involve reader and win their suppor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Variation in tone - serious to conversational - depending on purpose of article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olloquial or formal language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Jargon (subject-specific registers)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Humour - to make the read more interesting and entertaining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4:54:53Z</dcterms:created>
  <dc:creator>Yew Hui Tan</dc:creator>
  <dc:description/>
  <dc:language>en-US</dc:language>
  <cp:lastModifiedBy>tanyh</cp:lastModifiedBy>
  <dcterms:modified xsi:type="dcterms:W3CDTF">2008-03-31T01:40:14Z</dcterms:modified>
  <cp:revision>6</cp:revision>
  <dc:subject/>
  <dc:title>Feature Article</dc:title>
</cp:coreProperties>
</file>