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477-B428-46F2-8949-E2A26384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B30-8BE1-45CB-B492-50BF862C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E2D-9C07-451D-99ED-9C567B90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3EE-AAF6-4C8F-922D-30ADBEC2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A5BD-3995-4650-B40F-A605D0D5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EE4B-21E1-4ACA-AE14-D01FFCE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05BE-0BB8-4C7D-97F4-2D161497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57C-49D0-4D09-8BCA-1EAC9545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49DE-609D-43CE-90C3-75121763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73A3-F737-4036-B1DD-5F4851D3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58E-A1C6-46F4-A25E-3329A8B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CDD-F33E-420D-AEFF-FD14BBBD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1036-E4D1-451D-9CD2-DAE3811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0E41-D9B8-4AD7-BB8A-C23404C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27C3-AE95-4944-BC31-D22C22F2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528-A7D9-4FD8-8DED-840B4849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F69-7AA6-4490-BD11-9221A8FE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F51-9F3B-406F-A2D9-5007141F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C76-BB2E-40FD-8C42-72599CE3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EC5-8738-46C3-B166-CA6B168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8EE-EFFE-4F48-B408-176AC72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7DC-BAC4-4D70-B548-D18D7EBA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0FC-FF6A-44B5-A77E-111C960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B0D-6521-451F-AD35-D02653AF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0DA-8F9D-4E6E-93AA-B23127F3149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488A-5134-47B8-9CFC-B5EE12FC9A3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eature Ar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a Feature Articl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eature’ suggests focus on a single issue or personality, such 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n-depth commentary on a current 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ssue of social import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y general issue, e.g. sports, fashion, travel, gossip about well-known celebrities, history, heal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ims to inform, entertain or persua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ften highly subjective and controversi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ws vs Feature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News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s about an event, idea or si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ports on current situ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ation that is verified and tr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Featur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pret new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 depth and colour to th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terta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ective inform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tent Organis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lead paragraph wit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background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outline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issue or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series of paragraphs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elaborate the 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elective use of fact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o persuade and entertai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clear line of argumen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or opin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ylistic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iking headlines /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b-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er’s name / bylin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lumn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hort paragraph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nguage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motive language (biased words) - to persuade, show attitude or thought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sentence length to avoid monoton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1st person voice - to involve reader and win their suppor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tone - serious to conversational - depending on purpose of articl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lloquial or formal languag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Jargon (subject-specific registers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umour - to make the read more interesting and entertaining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4:54:53Z</dcterms:created>
  <dc:creator>Yew Hui Tan</dc:creator>
  <dc:description/>
  <dc:language>en-US</dc:language>
  <cp:lastModifiedBy>tanyh</cp:lastModifiedBy>
  <dcterms:modified xsi:type="dcterms:W3CDTF">2008-03-31T01:40:14Z</dcterms:modified>
  <cp:revision>6</cp:revision>
  <dc:subject/>
  <dc:title>Feature Article</dc:title>
</cp:coreProperties>
</file>