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8E5-934E-4E68-8B2F-571C9F9C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ABF-1C89-4AD7-B989-D24BDE08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132-DF75-4D38-B6D6-C14E5B2B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B4A-59CB-4B5E-824F-82B74649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BE4-5682-4D57-9AA7-CA5B71C4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148-D303-46A2-86D7-32683ABB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C9F-826B-4B6A-9CAB-0D9928A8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329-4EF7-44E4-97EB-405202B3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924-F315-4599-BD5C-1328093C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28D-9DB3-4D11-B105-D56A0AF8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ED9-8001-47D5-A70A-9CC070B0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373-CA95-40AF-82A2-9F2947F1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7CF4-2867-430E-B7EF-ADFA27C86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ubbl.us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embed bubbl.us mindmaps into Wiki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75720" cy="658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1480" y="3048120"/>
            <a:ext cx="3657600" cy="18082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ubbl.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trieve your mindma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Menu” at the bottom right cor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“HTML Embed Cod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257800" y="3886200"/>
            <a:ext cx="913680" cy="2057040"/>
            <a:chOff x="5257800" y="3886200"/>
            <a:chExt cx="913680" cy="2057040"/>
          </a:xfrm>
        </p:grpSpPr>
        <p:sp>
          <p:nvSpPr>
            <p:cNvPr id="45" name=""/>
            <p:cNvSpPr/>
            <p:nvPr/>
          </p:nvSpPr>
          <p:spPr>
            <a:xfrm>
              <a:off x="5257800" y="5943240"/>
              <a:ext cx="913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5257800" y="3886200"/>
              <a:ext cx="0" cy="205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10080" y="4571640"/>
            <a:ext cx="152640" cy="762480"/>
            <a:chOff x="5410080" y="4571640"/>
            <a:chExt cx="152640" cy="762480"/>
          </a:xfrm>
        </p:grpSpPr>
        <p:sp>
          <p:nvSpPr>
            <p:cNvPr id="48" name=""/>
            <p:cNvSpPr/>
            <p:nvPr/>
          </p:nvSpPr>
          <p:spPr>
            <a:xfrm>
              <a:off x="5410080" y="5334120"/>
              <a:ext cx="152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5410080" y="457164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2187720"/>
            <a:ext cx="2210040" cy="10674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 the whole HTML Embed Code. Ensure the complete code is cop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74320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3276720"/>
            <a:ext cx="3124440" cy="29088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the IT HL2 Mindmap page of your class wiki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in you and your partner’s n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your cursor where you want to insert th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the “Embed Widget” icon in the edit tool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133720" y="388620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9480" y="4191120"/>
            <a:ext cx="190512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657240" y="1984320"/>
            <a:ext cx="1828800" cy="4035240"/>
            <a:chOff x="3657240" y="1984320"/>
            <a:chExt cx="1828800" cy="4035240"/>
          </a:xfrm>
        </p:grpSpPr>
        <p:sp>
          <p:nvSpPr>
            <p:cNvPr id="58" name=""/>
            <p:cNvSpPr/>
            <p:nvPr/>
          </p:nvSpPr>
          <p:spPr>
            <a:xfrm flipV="1">
              <a:off x="5486040" y="1984320"/>
              <a:ext cx="0" cy="403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657240" y="6019560"/>
              <a:ext cx="182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6000" y="12384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5105520"/>
            <a:ext cx="3733920" cy="1321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Other HTML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paste the HTML code you copied from bubbl.us into this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86200" y="4953960"/>
            <a:ext cx="2057040" cy="1370520"/>
            <a:chOff x="3886200" y="4953960"/>
            <a:chExt cx="2057040" cy="1370520"/>
          </a:xfrm>
        </p:grpSpPr>
        <p:sp>
          <p:nvSpPr>
            <p:cNvPr id="63" name=""/>
            <p:cNvSpPr/>
            <p:nvPr/>
          </p:nvSpPr>
          <p:spPr>
            <a:xfrm flipV="1">
              <a:off x="5943240" y="4953960"/>
              <a:ext cx="0" cy="137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6324480"/>
              <a:ext cx="205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5105520" y="4495680"/>
            <a:ext cx="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4952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3352680"/>
            <a:ext cx="3504960" cy="119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serted mindmap will look like this on the wikispace editor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mber to 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3809880"/>
            <a:ext cx="685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5880" y="1640880"/>
            <a:ext cx="457200" cy="2778840"/>
            <a:chOff x="6095880" y="1640880"/>
            <a:chExt cx="457200" cy="2778840"/>
          </a:xfrm>
        </p:grpSpPr>
        <p:sp>
          <p:nvSpPr>
            <p:cNvPr id="71" name=""/>
            <p:cNvSpPr/>
            <p:nvPr/>
          </p:nvSpPr>
          <p:spPr>
            <a:xfrm flipV="1">
              <a:off x="6553080" y="1640880"/>
              <a:ext cx="0" cy="27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095880" y="44197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410080" y="2530440"/>
            <a:ext cx="2514600" cy="1797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la! Your mindmap should appear like this. The “+” and “-” allows viewers to zoom in to read, as well as zoom out to look at the whol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3:37:48Z</dcterms:created>
  <dc:creator>tanyh</dc:creator>
  <dc:description/>
  <dc:language>en-US</dc:language>
  <cp:lastModifiedBy>tanyh</cp:lastModifiedBy>
  <dcterms:modified xsi:type="dcterms:W3CDTF">2009-07-05T08:20:14Z</dcterms:modified>
  <cp:revision>4</cp:revision>
  <dc:subject/>
  <dc:title>Slide 1</dc:title>
</cp:coreProperties>
</file>