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BF9-F54B-490E-8CE0-982C2131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736-CC7F-4BFE-9CD1-3544DA68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A8F-2CD3-4AE0-A3C7-E06F4E2C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E0B-CA1A-460C-B530-BFB8990F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1A4-3B01-4901-B321-3268858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25F-76AF-4A57-9DA1-0DDB586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9B5-0A65-44DE-91B8-02483D76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65F-2D27-4A43-86C2-3A28C773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B10-47AF-49C6-BBCA-7B7D0E0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C36-42DC-45BC-9EB0-E09C4689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E69-A741-4A84-8FFF-DC96021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325-27E5-4F65-B750-03915630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EC8B-4E7E-40C0-ADA7-B2B7C3A00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ubbl.u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embed bubbl.us mindmaps into Wiki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75720" cy="658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3048120"/>
            <a:ext cx="3657600" cy="18082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ubbl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trieve your mindma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Menu” at the bottom right cor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“HTML Embed Cod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257800" y="3886200"/>
            <a:ext cx="913680" cy="2057040"/>
            <a:chOff x="5257800" y="3886200"/>
            <a:chExt cx="913680" cy="2057040"/>
          </a:xfrm>
        </p:grpSpPr>
        <p:sp>
          <p:nvSpPr>
            <p:cNvPr id="45" name=""/>
            <p:cNvSpPr/>
            <p:nvPr/>
          </p:nvSpPr>
          <p:spPr>
            <a:xfrm>
              <a:off x="5257800" y="5943240"/>
              <a:ext cx="913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257800" y="3886200"/>
              <a:ext cx="0" cy="205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10080" y="4571640"/>
            <a:ext cx="152640" cy="762480"/>
            <a:chOff x="5410080" y="4571640"/>
            <a:chExt cx="152640" cy="762480"/>
          </a:xfrm>
        </p:grpSpPr>
        <p:sp>
          <p:nvSpPr>
            <p:cNvPr id="48" name=""/>
            <p:cNvSpPr/>
            <p:nvPr/>
          </p:nvSpPr>
          <p:spPr>
            <a:xfrm>
              <a:off x="5410080" y="5334120"/>
              <a:ext cx="152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410080" y="457164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2187720"/>
            <a:ext cx="2210040" cy="1067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the whole HTML Embed Code. Ensure the complete code is cop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7432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3276720"/>
            <a:ext cx="3124440" cy="2908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the IT HL2 Mindmap page of your class wiki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in you and your partner’s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your cursor where you want to insert th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the “Embed Widget” icon in the edit tool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133720" y="38862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480" y="4191120"/>
            <a:ext cx="19051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57240" y="1984320"/>
            <a:ext cx="1828800" cy="4035240"/>
            <a:chOff x="3657240" y="1984320"/>
            <a:chExt cx="1828800" cy="4035240"/>
          </a:xfrm>
        </p:grpSpPr>
        <p:sp>
          <p:nvSpPr>
            <p:cNvPr id="58" name=""/>
            <p:cNvSpPr/>
            <p:nvPr/>
          </p:nvSpPr>
          <p:spPr>
            <a:xfrm flipV="1">
              <a:off x="5486040" y="1984320"/>
              <a:ext cx="0" cy="403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657240" y="6019560"/>
              <a:ext cx="182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00" y="12384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5105520"/>
            <a:ext cx="3733920" cy="1321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Other HTM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aste the HTML code you copied from bubbl.us into this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86200" y="4953960"/>
            <a:ext cx="2057040" cy="1370520"/>
            <a:chOff x="3886200" y="4953960"/>
            <a:chExt cx="2057040" cy="1370520"/>
          </a:xfrm>
        </p:grpSpPr>
        <p:sp>
          <p:nvSpPr>
            <p:cNvPr id="63" name=""/>
            <p:cNvSpPr/>
            <p:nvPr/>
          </p:nvSpPr>
          <p:spPr>
            <a:xfrm flipV="1">
              <a:off x="5943240" y="4953960"/>
              <a:ext cx="0" cy="137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6324480"/>
              <a:ext cx="205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5105520" y="4495680"/>
            <a:ext cx="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4952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3352680"/>
            <a:ext cx="3504960" cy="119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serted mindmap will look like this on the wikispace editor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mber to 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380988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5880" y="1640880"/>
            <a:ext cx="457200" cy="2778840"/>
            <a:chOff x="6095880" y="1640880"/>
            <a:chExt cx="457200" cy="2778840"/>
          </a:xfrm>
        </p:grpSpPr>
        <p:sp>
          <p:nvSpPr>
            <p:cNvPr id="71" name=""/>
            <p:cNvSpPr/>
            <p:nvPr/>
          </p:nvSpPr>
          <p:spPr>
            <a:xfrm flipV="1">
              <a:off x="6553080" y="1640880"/>
              <a:ext cx="0" cy="27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95880" y="4419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0080" y="2530440"/>
            <a:ext cx="2514600" cy="1797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la! Your mindmap should appear like this. The “+” and “-” allows viewers to zoom in to read, as well as zoom out to look at the whol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3:37:48Z</dcterms:created>
  <dc:creator>tanyh</dc:creator>
  <dc:description/>
  <dc:language>en-US</dc:language>
  <cp:lastModifiedBy>tanyh</cp:lastModifiedBy>
  <dcterms:modified xsi:type="dcterms:W3CDTF">2009-07-05T08:20:14Z</dcterms:modified>
  <cp:revision>4</cp:revision>
  <dc:subject/>
  <dc:title>Slide 1</dc:title>
</cp:coreProperties>
</file>