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462-480C-4355-A6F6-4BC602CE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A42-3AD6-4CD4-84B2-A1386558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C60-C706-4590-BB14-4B55A7D6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6FD-AC33-4AF1-BE58-0E719ED5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CD1-86E9-46AE-9876-6D234DEC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5FE-0CBB-4EDF-A9F9-87A315C0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5DE-9DCE-4195-B665-9B382555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DEE-0825-4288-98F2-0DD42E19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BC7-0679-4CC1-8248-67F6834B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F21-29BA-4624-A9D9-55286CFC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633-7BFA-43FA-BEF2-5BAC9662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3BA-77C2-4EF2-940D-2D2F408F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6896-19D0-4643-AA6F-9AE44ADCC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ubbl.us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embed bubbl.us mindmaps into Wikisp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775720" cy="658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81480" y="3048120"/>
            <a:ext cx="3657600" cy="18082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ubbl.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etrieve your mindma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“Menu” at the bottom right cor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click on “HTML Embed Cod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257800" y="3886200"/>
            <a:ext cx="913680" cy="2057040"/>
            <a:chOff x="5257800" y="3886200"/>
            <a:chExt cx="913680" cy="2057040"/>
          </a:xfrm>
        </p:grpSpPr>
        <p:sp>
          <p:nvSpPr>
            <p:cNvPr id="45" name=""/>
            <p:cNvSpPr/>
            <p:nvPr/>
          </p:nvSpPr>
          <p:spPr>
            <a:xfrm>
              <a:off x="5257800" y="5943240"/>
              <a:ext cx="913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5257800" y="3886200"/>
              <a:ext cx="0" cy="205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410080" y="4571640"/>
            <a:ext cx="152640" cy="762480"/>
            <a:chOff x="5410080" y="4571640"/>
            <a:chExt cx="152640" cy="762480"/>
          </a:xfrm>
        </p:grpSpPr>
        <p:sp>
          <p:nvSpPr>
            <p:cNvPr id="48" name=""/>
            <p:cNvSpPr/>
            <p:nvPr/>
          </p:nvSpPr>
          <p:spPr>
            <a:xfrm>
              <a:off x="5410080" y="5334120"/>
              <a:ext cx="152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5410080" y="457164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2187720"/>
            <a:ext cx="2210040" cy="10674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y the whole HTML Embed Code. Ensure the complete code is cop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74320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38280" y="3276720"/>
            <a:ext cx="3124440" cy="29088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the IT HL2 Mindmap page of your class wiki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in you and your partner’s na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 your cursor where you want to insert the mind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click on the “Embed Widget” icon in the edit tool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133720" y="3886200"/>
            <a:ext cx="3808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09480" y="4191120"/>
            <a:ext cx="190512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657240" y="1984320"/>
            <a:ext cx="1828800" cy="4035240"/>
            <a:chOff x="3657240" y="1984320"/>
            <a:chExt cx="1828800" cy="4035240"/>
          </a:xfrm>
        </p:grpSpPr>
        <p:sp>
          <p:nvSpPr>
            <p:cNvPr id="58" name=""/>
            <p:cNvSpPr/>
            <p:nvPr/>
          </p:nvSpPr>
          <p:spPr>
            <a:xfrm flipV="1">
              <a:off x="5486040" y="1984320"/>
              <a:ext cx="0" cy="403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657240" y="6019560"/>
              <a:ext cx="182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6000" y="12384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0" y="5105520"/>
            <a:ext cx="3733920" cy="1321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“Other HTML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paste the HTML code you copied from bubbl.us into this bo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“Sav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86200" y="4953960"/>
            <a:ext cx="2057040" cy="1370520"/>
            <a:chOff x="3886200" y="4953960"/>
            <a:chExt cx="2057040" cy="1370520"/>
          </a:xfrm>
        </p:grpSpPr>
        <p:sp>
          <p:nvSpPr>
            <p:cNvPr id="63" name=""/>
            <p:cNvSpPr/>
            <p:nvPr/>
          </p:nvSpPr>
          <p:spPr>
            <a:xfrm flipV="1">
              <a:off x="5943240" y="4953960"/>
              <a:ext cx="0" cy="137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6324480"/>
              <a:ext cx="205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 flipV="1">
            <a:off x="5105520" y="4495680"/>
            <a:ext cx="0" cy="10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4952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3352680"/>
            <a:ext cx="3504960" cy="1194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serted mindmap will look like this on the wikispace editor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mber to click “Sav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95120" y="3809880"/>
            <a:ext cx="6858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5880" y="1640880"/>
            <a:ext cx="457200" cy="2778840"/>
            <a:chOff x="6095880" y="1640880"/>
            <a:chExt cx="457200" cy="2778840"/>
          </a:xfrm>
        </p:grpSpPr>
        <p:sp>
          <p:nvSpPr>
            <p:cNvPr id="71" name=""/>
            <p:cNvSpPr/>
            <p:nvPr/>
          </p:nvSpPr>
          <p:spPr>
            <a:xfrm flipV="1">
              <a:off x="6553080" y="1640880"/>
              <a:ext cx="0" cy="277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6095880" y="44197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410080" y="2530440"/>
            <a:ext cx="2514600" cy="1797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la! Your mindmap should appear like this. The “+” and “-” allows viewers to zoom in to read, as well as zoom out to look at the whole mind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3:37:48Z</dcterms:created>
  <dc:creator>tanyh</dc:creator>
  <dc:description/>
  <dc:language>en-US</dc:language>
  <cp:lastModifiedBy>tanyh</cp:lastModifiedBy>
  <dcterms:modified xsi:type="dcterms:W3CDTF">2009-07-05T08:20:14Z</dcterms:modified>
  <cp:revision>4</cp:revision>
  <dc:subject/>
  <dc:title>Slide 1</dc:title>
</cp:coreProperties>
</file>