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778-AFFB-4A55-AD57-914E4EF5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533-B430-4592-824F-8632D75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6EC-2F63-4D8C-ABB2-302213D2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EA0-F72A-440A-A8BF-3F8C2F47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84E-9C6E-4C6F-9C22-77A81321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65D-8E51-4BB2-BEE8-1940001C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8E8-6E83-4BA3-BD92-323C811A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BC7-4A69-46CC-A331-387A83B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FD0-269F-4DE4-9DF4-0921A54C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F8D-1C36-4B1D-BC1F-E0AB3EDF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DC62-D688-480A-803B-2A4593E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9C2-FFE7-45AA-8649-2A1EE86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BC3E-19D5-4F25-A9F2-57B5EB1D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ubbl.u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embed bubbl.us mindmaps into Wiki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75720" cy="658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3048120"/>
            <a:ext cx="3657600" cy="18082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bbl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trieve your mindma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Menu” at the bottom right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“HTML Embed Cod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257800" y="3886200"/>
            <a:ext cx="913680" cy="2057040"/>
            <a:chOff x="5257800" y="3886200"/>
            <a:chExt cx="913680" cy="2057040"/>
          </a:xfrm>
        </p:grpSpPr>
        <p:sp>
          <p:nvSpPr>
            <p:cNvPr id="45" name=""/>
            <p:cNvSpPr/>
            <p:nvPr/>
          </p:nvSpPr>
          <p:spPr>
            <a:xfrm>
              <a:off x="5257800" y="5943240"/>
              <a:ext cx="913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257800" y="3886200"/>
              <a:ext cx="0" cy="205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10080" y="4571640"/>
            <a:ext cx="152640" cy="762480"/>
            <a:chOff x="5410080" y="4571640"/>
            <a:chExt cx="152640" cy="762480"/>
          </a:xfrm>
        </p:grpSpPr>
        <p:sp>
          <p:nvSpPr>
            <p:cNvPr id="48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410080" y="457164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2187720"/>
            <a:ext cx="2210040" cy="1067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whole HTML Embed Code. Ensure the complete code is co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3276720"/>
            <a:ext cx="3124440" cy="290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the IT HL2 Mindmap page of your class wiki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in you and your partner’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your cursor where you want to insert th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the “Embed Widget” icon in the edit tool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133720" y="38862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480" y="4191120"/>
            <a:ext cx="19051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240" y="1984320"/>
            <a:ext cx="1828800" cy="4035240"/>
            <a:chOff x="3657240" y="1984320"/>
            <a:chExt cx="1828800" cy="4035240"/>
          </a:xfrm>
        </p:grpSpPr>
        <p:sp>
          <p:nvSpPr>
            <p:cNvPr id="58" name=""/>
            <p:cNvSpPr/>
            <p:nvPr/>
          </p:nvSpPr>
          <p:spPr>
            <a:xfrm flipV="1">
              <a:off x="5486040" y="1984320"/>
              <a:ext cx="0" cy="403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657240" y="6019560"/>
              <a:ext cx="182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1238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5105520"/>
            <a:ext cx="3733920" cy="1321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Other HTM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ste the HTML code you copied from bubbl.us into this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86200" y="4953960"/>
            <a:ext cx="2057040" cy="1370520"/>
            <a:chOff x="3886200" y="4953960"/>
            <a:chExt cx="2057040" cy="1370520"/>
          </a:xfrm>
        </p:grpSpPr>
        <p:sp>
          <p:nvSpPr>
            <p:cNvPr id="63" name=""/>
            <p:cNvSpPr/>
            <p:nvPr/>
          </p:nvSpPr>
          <p:spPr>
            <a:xfrm flipV="1">
              <a:off x="5943240" y="4953960"/>
              <a:ext cx="0" cy="137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6324480"/>
              <a:ext cx="205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5105520" y="44956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4952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352680"/>
            <a:ext cx="3504960" cy="119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serted mindmap will look like this on the wikispace editor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to 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1640880"/>
            <a:ext cx="457200" cy="2778840"/>
            <a:chOff x="6095880" y="1640880"/>
            <a:chExt cx="457200" cy="2778840"/>
          </a:xfrm>
        </p:grpSpPr>
        <p:sp>
          <p:nvSpPr>
            <p:cNvPr id="71" name=""/>
            <p:cNvSpPr/>
            <p:nvPr/>
          </p:nvSpPr>
          <p:spPr>
            <a:xfrm flipV="1">
              <a:off x="6553080" y="1640880"/>
              <a:ext cx="0" cy="27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880" y="4419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2530440"/>
            <a:ext cx="2514600" cy="179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la! Your mindmap should appear like this. The “+” and “-” allows viewers to zoom in to read, as well as zoom out to look at the whol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3:37:48Z</dcterms:created>
  <dc:creator>tanyh</dc:creator>
  <dc:description/>
  <dc:language>en-US</dc:language>
  <cp:lastModifiedBy>tanyh</cp:lastModifiedBy>
  <dcterms:modified xsi:type="dcterms:W3CDTF">2009-07-05T08:20:14Z</dcterms:modified>
  <cp:revision>4</cp:revision>
  <dc:subject/>
  <dc:title>Slide 1</dc:title>
</cp:coreProperties>
</file>